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4D0-AA97-44B9-8E0B-EEF0357F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802-1BF7-4E1E-B00A-EE39C5DE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08F-377E-46D0-B016-4F9D9144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108-F583-4EF0-A5DB-0B01B2CF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8AC-359F-4C1B-8B9C-22A66A99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0C8-6939-41C8-A089-F10379BE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969-F434-4D34-BCBA-93063B9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F77-9E91-40C7-BF67-368F91E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27D-37C9-44ED-9635-5B6B226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79A-BDCD-4865-9AD9-91224BE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E82-1F23-40B4-B410-0069F47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7AF-B010-439E-9794-AF9F2B26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E58-5E41-46D2-A6A8-48D86F12E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33840" y="106200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яя русская литература наполняет нас гордостью за наших далёких предшественников, учит нас                                с уважением относиться к их труду, борьбе, к их заботе о благе род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.С. Лихачё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68360" y="-100080"/>
            <a:ext cx="813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</a:rPr>
              <a:t>Литература Древней Рус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боян"/>
          <p:cNvPicPr/>
          <p:nvPr/>
        </p:nvPicPr>
        <p:blipFill>
          <a:blip r:embed="rId1"/>
          <a:stretch/>
        </p:blipFill>
        <p:spPr>
          <a:xfrm>
            <a:off x="468360" y="981000"/>
            <a:ext cx="1854000" cy="331164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русь"/>
          <p:cNvPicPr/>
          <p:nvPr/>
        </p:nvPicPr>
        <p:blipFill>
          <a:blip r:embed="rId2"/>
          <a:stretch/>
        </p:blipFill>
        <p:spPr>
          <a:xfrm>
            <a:off x="468360" y="4437000"/>
            <a:ext cx="2736720" cy="204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ANd9GcS249JjaVAx-gt3jHgUmejESh-3VUkQ6DlORwhyP0zCqri5w73u"/>
          <p:cNvPicPr/>
          <p:nvPr/>
        </p:nvPicPr>
        <p:blipFill>
          <a:blip r:embed="rId3"/>
          <a:stretch/>
        </p:blipFill>
        <p:spPr>
          <a:xfrm>
            <a:off x="5940360" y="4437000"/>
            <a:ext cx="2735280" cy="20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ANd9GcQR8bW4wV-HbX_FAv--D8IUMY2GdCcVA1SXqUV-rnGoBQOcWjAyZg"/>
          <p:cNvPicPr/>
          <p:nvPr/>
        </p:nvPicPr>
        <p:blipFill>
          <a:blip r:embed="rId4"/>
          <a:stretch/>
        </p:blipFill>
        <p:spPr>
          <a:xfrm>
            <a:off x="3635280" y="4005360"/>
            <a:ext cx="188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92240" y="115920"/>
            <a:ext cx="87008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ЖИТИ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амый распространённый жанр древнерусской лит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тие создавали люди, которые непосредственно общались с человеком или могли достоверно свидетельствовать о его жизни. Житие создавалось всегда после смерти человека, которого вскоре             причисляли к ли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ятых. Оно выполняло огромную воспитательную функцию, потому что житие святого воспринимали как пример праведной жизни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10" descr=""/>
          <p:cNvPicPr/>
          <p:nvPr/>
        </p:nvPicPr>
        <p:blipFill>
          <a:blip r:embed="rId1"/>
          <a:stretch/>
        </p:blipFill>
        <p:spPr>
          <a:xfrm>
            <a:off x="260280" y="4075200"/>
            <a:ext cx="343224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2"/>
          <a:stretch/>
        </p:blipFill>
        <p:spPr>
          <a:xfrm>
            <a:off x="6877080" y="4075200"/>
            <a:ext cx="2016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08000" y="0"/>
            <a:ext cx="8785080" cy="60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ОУЧЕНИЕ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– разновидность жанра древнерусского красноречия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поучениях древнерусские летописцы пытались представить модель поведения для любого древнерусского человека: и для князя,                                   и для простолюдина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амым ярким образцом этого жанра является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«Поучение Владимира Мономаха»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ем поучении Владимир Мономах                            дает советы о том, как следует вести свою                          жизнь, как необходимо искать спасения                          души в затворничестве, служить Богу,                        помогая нуждающимс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8" descr="ANd9GcQxFXVy4MjhcfsxabwuodZfeIzXUOq6VxYAMsfs-M1O6WzkJdQk"/>
          <p:cNvPicPr/>
          <p:nvPr/>
        </p:nvPicPr>
        <p:blipFill>
          <a:blip r:embed="rId1"/>
          <a:stretch/>
        </p:blipFill>
        <p:spPr>
          <a:xfrm>
            <a:off x="7020000" y="3860640"/>
            <a:ext cx="1896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108000" y="189000"/>
            <a:ext cx="8856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ОВЕСТЬ </a:t>
            </a:r>
            <a:r>
              <a:rPr b="1" lang="ru-RU" sz="2900" spc="-1" strike="noStrike">
                <a:solidFill>
                  <a:srgbClr val="003300"/>
                </a:solidFill>
                <a:latin typeface="Times New Roman"/>
              </a:rPr>
              <a:t>(воинская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3300"/>
                </a:solidFill>
                <a:latin typeface="Times New Roman"/>
              </a:rPr>
              <a:t>историческая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– это древнерусское произведение, повествующее                    о деяниях князей-воинов, их борьбе с внешними врагами, о воинских подвигах и княжеских междоусобицах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имерами воинских повестей являются              «Повесть о битве на реке Калке»,                           «Повесть о разорении Рязани ханом Батыем»,         «Повесть о житие Александра Невского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ANd9GcQurvqvmx3MJ4qhgh-WrA-KOmayXSeTzqblECtgz64uECps8dnS3A"/>
          <p:cNvPicPr/>
          <p:nvPr/>
        </p:nvPicPr>
        <p:blipFill>
          <a:blip r:embed="rId1"/>
          <a:stretch/>
        </p:blipFill>
        <p:spPr>
          <a:xfrm>
            <a:off x="2843280" y="4365720"/>
            <a:ext cx="3527280" cy="1842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ANd9GcSFGyHbexy87fl4TLpC7gL55NCxa9xynsigRgXofKtE_db4wINoww"/>
          <p:cNvPicPr/>
          <p:nvPr/>
        </p:nvPicPr>
        <p:blipFill>
          <a:blip r:embed="rId2"/>
          <a:stretch/>
        </p:blipFill>
        <p:spPr>
          <a:xfrm>
            <a:off x="324000" y="465300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ANd9GcSqAK38jZEyZZ-1dxYPy723XSLpYjTKktXrkE_hx248e9u_-tqrpg"/>
          <p:cNvPicPr/>
          <p:nvPr/>
        </p:nvPicPr>
        <p:blipFill>
          <a:blip r:embed="rId3"/>
          <a:stretch/>
        </p:blipFill>
        <p:spPr>
          <a:xfrm>
            <a:off x="6516720" y="4653000"/>
            <a:ext cx="2381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179280" y="1989000"/>
            <a:ext cx="8713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Древней Руси летопись играла очень важную роль, т.к. не только сообщала об исторических событиях прошлого, но и говорила о том, как необходимо поступать в определённых ситуациях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8" descr="ANd9GcTYMVZ5GDQ7QJx-RChIH0UQVNJHsX5nTq_xCHHQUlh7jYfRoZzr"/>
          <p:cNvPicPr/>
          <p:nvPr/>
        </p:nvPicPr>
        <p:blipFill>
          <a:blip r:embed="rId1"/>
          <a:stretch/>
        </p:blipFill>
        <p:spPr>
          <a:xfrm>
            <a:off x="250920" y="260280"/>
            <a:ext cx="1944720" cy="1532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9"/>
          <p:cNvSpPr/>
          <p:nvPr/>
        </p:nvSpPr>
        <p:spPr>
          <a:xfrm>
            <a:off x="250920" y="3789360"/>
            <a:ext cx="669744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ревнейшей летописью является                            </a:t>
            </a:r>
            <a:r>
              <a:rPr b="0" lang="ru-RU" sz="2900" spc="-1" strike="noStrike">
                <a:solidFill>
                  <a:srgbClr val="003300"/>
                </a:solidFill>
                <a:latin typeface="Times New Roman"/>
              </a:rPr>
              <a:t>«Повесть временных лет»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Летопись рассказывает о происхождении русских, о генеалогии рода киевских князей                 и о возникновении древнерусского государства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1" descr="ANd9GcSxq2270p9NMB7LjQyG1971Rpq-EIXOAdmwGX4DDGFmvICj9A2NqQ"/>
          <p:cNvPicPr/>
          <p:nvPr/>
        </p:nvPicPr>
        <p:blipFill>
          <a:blip r:embed="rId2"/>
          <a:stretch/>
        </p:blipFill>
        <p:spPr>
          <a:xfrm>
            <a:off x="7020000" y="400536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2"/>
          <p:cNvSpPr/>
          <p:nvPr/>
        </p:nvSpPr>
        <p:spPr>
          <a:xfrm>
            <a:off x="2124000" y="0"/>
            <a:ext cx="684072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ЛЕТОПИС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– эт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сторические повествования, которые велись по годам; самый древний жанр древнерусской литературы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179280" y="2565360"/>
            <a:ext cx="878544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атер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сборник коротких рассказов о жизни святых отцов; собрание их избранных изречений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Ап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риф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древнегреч. «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сокровенный, тайны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») – это произведение религиозно-легендарного характера. Апокрифы получили особое распространение в 13-14 веках, но церковь не признавала этот жанр и не признаёт                              до настоящего времен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ANd9GcRMc-fV1AmyFj71ZsrIzwd6Dd3Wv-yA9Sjn7bBn09Nrmyg_Jp5oLQ"/>
          <p:cNvPicPr/>
          <p:nvPr/>
        </p:nvPicPr>
        <p:blipFill>
          <a:blip r:embed="rId1"/>
          <a:stretch/>
        </p:blipFill>
        <p:spPr>
          <a:xfrm>
            <a:off x="7236000" y="333360"/>
            <a:ext cx="1609560" cy="22161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179280" y="0"/>
            <a:ext cx="691380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Хронограф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это тексты, содержащие описание событий, происходящих                     в 15-16 века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Ч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ьи-мин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собрание произведений                              о святых люд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8"/>
          <p:cNvSpPr/>
          <p:nvPr/>
        </p:nvSpPr>
        <p:spPr>
          <a:xfrm>
            <a:off x="179280" y="0"/>
            <a:ext cx="878544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СЛО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видность жанра древнерусского красноречия; это поучение и послание к потомк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ом служи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800" spc="-1" strike="noStrike">
                <a:solidFill>
                  <a:srgbClr val="003300"/>
                </a:solidFill>
                <a:latin typeface="Times New Roman"/>
              </a:rPr>
              <a:t>Слово о полку Игорев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ссказывающем о военном походе князя Игоря               на половцев в 1185 год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и предполагают, что автором «Слова             о полку Игореве» был один из участников этого похода. Другим примером этого жанра может служи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Слово        о погибели Русской земли»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торое создавалось сразу после того, как на Русь пришли монголо-тата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2" descr="ANd9GcRYoKPBLgMEc8vTsNzPXs0Q1B9jz4lTXxmfD6YluR426n-oaroH"/>
          <p:cNvPicPr/>
          <p:nvPr/>
        </p:nvPicPr>
        <p:blipFill>
          <a:blip r:embed="rId1"/>
          <a:stretch/>
        </p:blipFill>
        <p:spPr>
          <a:xfrm>
            <a:off x="1116000" y="4653000"/>
            <a:ext cx="1398600" cy="199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ANd9GcTPlu8aLBYI_1sLHa3qgC1j130Q15wUMfoF4PYmBf9s_KtW0gA5"/>
          <p:cNvPicPr/>
          <p:nvPr/>
        </p:nvPicPr>
        <p:blipFill>
          <a:blip r:embed="rId2"/>
          <a:stretch/>
        </p:blipFill>
        <p:spPr>
          <a:xfrm>
            <a:off x="6804000" y="4653000"/>
            <a:ext cx="1523880" cy="199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ANd9GcQQwAARv6D1kOjLsdEY_9j4Xg4p2SKPgrusAeJBlDypTKMGzCsD"/>
          <p:cNvPicPr/>
          <p:nvPr/>
        </p:nvPicPr>
        <p:blipFill>
          <a:blip r:embed="rId3"/>
          <a:stretch/>
        </p:blipFill>
        <p:spPr>
          <a:xfrm>
            <a:off x="3348000" y="4653000"/>
            <a:ext cx="2687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8000" y="189000"/>
          <a:ext cx="8928000" cy="647532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ая 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роизве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 век — I треть XII ве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треть XII — I треть XIII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треть XIII — конец XIV 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ец XIV—XV 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ец XV—XVI век 6. XVII 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10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</a:rPr>
              <a:t>Литература Древней Рус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0920" y="777960"/>
            <a:ext cx="583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тературе Древней Руси отразились различные периоды становления Российского государства с 11 по 18 в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едениях содержится бесценный исторический материал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узнаём о события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сходивших в прошло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выдающихся государственных деятелях, у нас возникает живое представление о простых люд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х разных сослов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ших в ту далёкую эпох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ms17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084720" y="981000"/>
            <a:ext cx="2587680" cy="28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ANd9GcTYMVZ5GDQ7QJx-RChIH0UQVNJHsX5nTq_xCHHQUlh7jYfRoZzr"/>
          <p:cNvPicPr/>
          <p:nvPr/>
        </p:nvPicPr>
        <p:blipFill>
          <a:blip r:embed="rId2"/>
          <a:stretch/>
        </p:blipFill>
        <p:spPr>
          <a:xfrm>
            <a:off x="6084720" y="4221000"/>
            <a:ext cx="266400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635280" cy="29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373720" y="1125360"/>
            <a:ext cx="3292560" cy="5278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4427640" y="18900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988 году Русь приним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христиан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x1-340"/>
          <p:cNvPicPr/>
          <p:nvPr/>
        </p:nvPicPr>
        <p:blipFill>
          <a:blip r:embed="rId3"/>
          <a:stretch/>
        </p:blipFill>
        <p:spPr>
          <a:xfrm>
            <a:off x="395280" y="3429000"/>
            <a:ext cx="4114800" cy="2965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668600" y="47520"/>
            <a:ext cx="6048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чение крещения Руси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олнить сравнить с эталоно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141120" y="4722840"/>
            <a:ext cx="2955960" cy="186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2598840" y="968400"/>
            <a:ext cx="295596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2455920" y="952560"/>
            <a:ext cx="3282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2"/>
          <a:stretch/>
        </p:blipFill>
        <p:spPr>
          <a:xfrm>
            <a:off x="5994360" y="952560"/>
            <a:ext cx="2955960" cy="1512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8"/>
          <p:cNvSpPr/>
          <p:nvPr/>
        </p:nvSpPr>
        <p:spPr>
          <a:xfrm>
            <a:off x="171360" y="984240"/>
            <a:ext cx="202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71360" y="1362240"/>
            <a:ext cx="2090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896080" y="870120"/>
            <a:ext cx="31874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1"/>
          <p:cNvSpPr/>
          <p:nvPr/>
        </p:nvSpPr>
        <p:spPr>
          <a:xfrm>
            <a:off x="2631960" y="2739960"/>
            <a:ext cx="29559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3354480" y="4765680"/>
            <a:ext cx="22939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5896080" y="4460760"/>
            <a:ext cx="3039840" cy="213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2692440" y="2833560"/>
            <a:ext cx="295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ещение Руси 988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3187800" y="4983120"/>
            <a:ext cx="230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4520" y="4621320"/>
            <a:ext cx="31068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896080" y="4365720"/>
            <a:ext cx="3170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Прямая со стрелкой 19"/>
          <p:cNvCxnSpPr/>
          <p:nvPr/>
        </p:nvCxnSpPr>
        <p:spPr>
          <a:xfrm>
            <a:off x="1213920" y="2522160"/>
            <a:ext cx="124200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Прямая со стрелкой 21"/>
          <p:cNvCxnSpPr/>
          <p:nvPr/>
        </p:nvCxnSpPr>
        <p:spPr>
          <a:xfrm flipH="1">
            <a:off x="5738040" y="2522160"/>
            <a:ext cx="155340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Прямая со стрелкой 23"/>
          <p:cNvCxnSpPr>
            <a:stCxn id="61" idx="2"/>
            <a:endCxn id="66" idx="0"/>
          </p:cNvCxnSpPr>
          <p:nvPr/>
        </p:nvCxnSpPr>
        <p:spPr>
          <a:xfrm>
            <a:off x="4097160" y="1536840"/>
            <a:ext cx="1368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Прямая со стрелкой 25"/>
          <p:cNvCxnSpPr>
            <a:stCxn id="71" idx="0"/>
          </p:cNvCxnSpPr>
          <p:nvPr/>
        </p:nvCxnSpPr>
        <p:spPr>
          <a:xfrm flipV="1">
            <a:off x="1628640" y="3644640"/>
            <a:ext cx="82800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Прямая со стрелкой 32"/>
          <p:cNvCxnSpPr/>
          <p:nvPr/>
        </p:nvCxnSpPr>
        <p:spPr>
          <a:xfrm flipV="1">
            <a:off x="4500360" y="4365720"/>
            <a:ext cx="108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Прямая со стрелкой 35"/>
          <p:cNvCxnSpPr>
            <a:stCxn id="72" idx="0"/>
          </p:cNvCxnSpPr>
          <p:nvPr/>
        </p:nvCxnSpPr>
        <p:spPr>
          <a:xfrm flipH="1" flipV="1">
            <a:off x="5738400" y="3644640"/>
            <a:ext cx="17438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668600" y="475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начение крещения Ру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41120" y="4722840"/>
            <a:ext cx="2955960" cy="186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4" descr=""/>
          <p:cNvPicPr/>
          <p:nvPr/>
        </p:nvPicPr>
        <p:blipFill>
          <a:blip r:embed="rId1"/>
          <a:stretch/>
        </p:blipFill>
        <p:spPr>
          <a:xfrm>
            <a:off x="2598840" y="968400"/>
            <a:ext cx="2955960" cy="1511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2455920" y="952560"/>
            <a:ext cx="328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крепление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евского княз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7" descr=""/>
          <p:cNvPicPr/>
          <p:nvPr/>
        </p:nvPicPr>
        <p:blipFill>
          <a:blip r:embed="rId2"/>
          <a:stretch/>
        </p:blipFill>
        <p:spPr>
          <a:xfrm>
            <a:off x="5994360" y="952560"/>
            <a:ext cx="2955960" cy="1512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171360" y="984240"/>
            <a:ext cx="20242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71360" y="1362240"/>
            <a:ext cx="20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лочение 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896080" y="870120"/>
            <a:ext cx="318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лучшение международного 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2631960" y="2739960"/>
            <a:ext cx="295596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3354480" y="4765680"/>
            <a:ext cx="22939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896080" y="4460760"/>
            <a:ext cx="3039840" cy="213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692440" y="2833560"/>
            <a:ext cx="295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ещение Руси 988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3187800" y="498312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ягчение нра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74520" y="4621320"/>
            <a:ext cx="310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никновение Русской православной церк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5896080" y="4365720"/>
            <a:ext cx="317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вление письменности, живописи, каменного строитель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Прямая со стрелкой 19"/>
          <p:cNvCxnSpPr/>
          <p:nvPr/>
        </p:nvCxnSpPr>
        <p:spPr>
          <a:xfrm>
            <a:off x="1213920" y="2522160"/>
            <a:ext cx="124200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Прямая со стрелкой 21"/>
          <p:cNvCxnSpPr/>
          <p:nvPr/>
        </p:nvCxnSpPr>
        <p:spPr>
          <a:xfrm flipH="1">
            <a:off x="5738040" y="2522160"/>
            <a:ext cx="155340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Прямая со стрелкой 23"/>
          <p:cNvCxnSpPr>
            <a:stCxn id="82" idx="2"/>
            <a:endCxn id="87" idx="0"/>
          </p:cNvCxnSpPr>
          <p:nvPr/>
        </p:nvCxnSpPr>
        <p:spPr>
          <a:xfrm>
            <a:off x="4097160" y="2522520"/>
            <a:ext cx="136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25"/>
          <p:cNvCxnSpPr>
            <a:stCxn id="92" idx="0"/>
          </p:cNvCxnSpPr>
          <p:nvPr/>
        </p:nvCxnSpPr>
        <p:spPr>
          <a:xfrm flipV="1">
            <a:off x="1628640" y="3644640"/>
            <a:ext cx="82800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Прямая со стрелкой 32"/>
          <p:cNvCxnSpPr/>
          <p:nvPr/>
        </p:nvCxnSpPr>
        <p:spPr>
          <a:xfrm flipV="1">
            <a:off x="4500360" y="4365720"/>
            <a:ext cx="108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Прямая со стрелкой 35"/>
          <p:cNvCxnSpPr>
            <a:stCxn id="93" idx="0"/>
          </p:cNvCxnSpPr>
          <p:nvPr/>
        </p:nvCxnSpPr>
        <p:spPr>
          <a:xfrm flipH="1" flipV="1">
            <a:off x="5738400" y="3644640"/>
            <a:ext cx="17438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собенности       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9840" y="1176480"/>
            <a:ext cx="88567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ерусская литература возникл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 ве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 принятия      христианства как литерату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ая, религиоз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си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ключитель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 характ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допускала вымы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о следовала фак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 прославлял извечно ценные качества: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честие, смелость, милосердие, справедлив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евнерусская литература должна была соблюдать этикет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этикет миропоряд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к должен совершаться ход событий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кет повед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к должен вести себя герой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кет словесны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акими словами должен описывать совершающееся писатель), т.е. всё создавалось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нон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определённым правилам и образц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рское начал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древнерусской литератур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глуше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на многих авто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ревнерусских памятников                            сегодн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звест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тому что 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ы тех лет сами не указывали своего им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Жанры                         древнерусской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Жан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исторически сложившийся тип литературного произведения, на основе которого создаются тексты конкретных литературных произведений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Жанры литературы Древней Руси                       существенно отличаются от современной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68360" y="5013360"/>
            <a:ext cx="22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первич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012000" y="501336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Comic Sans MS"/>
              </a:rPr>
              <a:t>объединя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268000" y="4508640"/>
            <a:ext cx="685800" cy="380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5724360" y="4508640"/>
            <a:ext cx="648000" cy="360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ANd9GcTOXiLzNFG4hbHwqzne6G0YtIxnY5xUa7NukwCEAtF2ee9GDTA5qw"/>
          <p:cNvPicPr/>
          <p:nvPr/>
        </p:nvPicPr>
        <p:blipFill>
          <a:blip r:embed="rId1"/>
          <a:stretch/>
        </p:blipFill>
        <p:spPr>
          <a:xfrm>
            <a:off x="2771640" y="4941720"/>
            <a:ext cx="3024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324000" y="189000"/>
            <a:ext cx="38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Comic Sans MS"/>
              </a:rPr>
              <a:t>Первичные жан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427640" y="2997360"/>
            <a:ext cx="45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Comic Sans MS"/>
              </a:rPr>
              <a:t>Объединяющие жанр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2232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житие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лово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учение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вест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96000" y="3500280"/>
            <a:ext cx="2663640" cy="32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летопись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хронограф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етьи-мине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атерик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апокри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5" descr="лет"/>
          <p:cNvPicPr/>
          <p:nvPr/>
        </p:nvPicPr>
        <p:blipFill>
          <a:blip r:embed="rId1"/>
          <a:stretch/>
        </p:blipFill>
        <p:spPr>
          <a:xfrm>
            <a:off x="6227640" y="333360"/>
            <a:ext cx="1809720" cy="25243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8" descr="лет 1"/>
          <p:cNvPicPr/>
          <p:nvPr/>
        </p:nvPicPr>
        <p:blipFill>
          <a:blip r:embed="rId2"/>
          <a:stretch/>
        </p:blipFill>
        <p:spPr>
          <a:xfrm>
            <a:off x="900000" y="2924280"/>
            <a:ext cx="2444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55:01Z</dcterms:created>
  <dc:creator>admin</dc:creator>
  <dc:description/>
  <dc:language>en-US</dc:language>
  <cp:lastModifiedBy>admin</cp:lastModifiedBy>
  <dcterms:modified xsi:type="dcterms:W3CDTF">2025-02-06T10:22:48Z</dcterms:modified>
  <cp:revision>409</cp:revision>
  <dc:subject/>
  <dc:title>Исторические народные песни</dc:title>
</cp:coreProperties>
</file>