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87A0-23AD-4F37-9662-A10FF01D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A151-AF0A-4D29-A7A7-0C46EAB2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7101-2318-4A9C-AB63-F2F50BA5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3957-7043-4189-A3BE-14F1FA7F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9D1A-2D7F-4C91-9C92-2425797B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F060-19A3-48FB-9F77-97B81218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5B55-1218-4296-9F35-69CE339C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4F74-B5DD-48F4-97B5-30C03D1D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7939-D8EC-48C1-8C57-54A2D546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633F-E826-44BD-987B-B6F5598A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CDE1-D876-4882-BA78-82AC89CA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8C2D-3D0F-4E0D-A2CD-78C8138A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CE4D-7EB7-4014-83B4-85B5E9B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491D-5A71-4577-A41A-D2081AD3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1581-915D-4B2A-8EC6-DF4E3841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AEB0-7A49-460C-9006-8E30954C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F247-2BD4-4005-AF97-7CB9DF2D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3B02-4F64-47CD-9859-C7847D3E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4FEE-9BE2-48B4-B488-3FFB802C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7BDD-B37C-42EB-8C8F-381D6750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BDD9-6858-4B04-A10B-4C80A3DA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9783-32DE-4BF3-A87A-534F8AA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0745-BE8C-4501-920F-A4F55109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FB583-0E7C-4FF9-9D85-EC16048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DFBC-BAC9-417E-A5D2-8B7B4CAA179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1FE7-1EFE-47E9-A21E-F1836C79D14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ffc000"/>
                </a:solidFill>
                <a:latin typeface="Monotype Corsiva"/>
                <a:ea typeface="MS Mincho"/>
              </a:rPr>
              <a:t>Александр Вампилов 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2" descr="D:\документы\11класс\Вампилов\Вампилов фото\logovamp1.gif"/>
          <p:cNvPicPr/>
          <p:nvPr/>
        </p:nvPicPr>
        <p:blipFill>
          <a:blip r:embed="rId1"/>
          <a:stretch/>
        </p:blipFill>
        <p:spPr>
          <a:xfrm>
            <a:off x="285840" y="2571840"/>
            <a:ext cx="8408880" cy="26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« Будем  добрее, внимательнее  друг к  другу, иначе потом бывает  поздно</a:t>
            </a: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 стало нашего Саши. Не верится в это, не верится. Мы гордились, когда узнали, что пьесами нашего Саши заинтересовались Георгий Товстоногов, Олег Ефремов, Юрий Любимов. В сентябре он вновь собирался в Москву. Одному из нас обещал привезти  модный галстук и пластинку вальсов Шопена, а другой советовался с Сашей о своем отпуске и они вместе составляли «план» .  А потом он уехал в гости к Байкалу, и старик его обратно не отпустил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перь о тебе, Саша, нужно говорить « был». Ты бы рассмеялся, старик, если бы услышал это неделю назад. И глаза твои, острый восточный разрез которых всегда говорил, что ты умеешь понимать и ценить шутку, улыбнулись бы вместе с тобой. Но мы не скажем , Саша, что ты был, потому что ты останешься с нами, среди своих героев, среди дел и поступков своих друз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ни будут жить так же любя жизнь и людей, как  ты. Мы сбережем память о твоей прямоте и честности, о твоем уважении к творчеств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 ещё мы будем добрее и внимательнее друг к другу, потому что потом бывает поз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/ Марк Сергеев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2" descr="D:\документы\11класс\Вампилов\Марк Сергеев А Вампилов  в музее Иркутска обложки книг\1.jpg"/>
          <p:cNvPicPr/>
          <p:nvPr/>
        </p:nvPicPr>
        <p:blipFill>
          <a:blip r:embed="rId1"/>
          <a:stretch/>
        </p:blipFill>
        <p:spPr>
          <a:xfrm>
            <a:off x="0" y="1785960"/>
            <a:ext cx="3571920" cy="29876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5"/>
          <p:cNvSpPr/>
          <p:nvPr/>
        </p:nvSpPr>
        <p:spPr>
          <a:xfrm>
            <a:off x="214200" y="4857840"/>
            <a:ext cx="3429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е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575160" y="272880"/>
          <a:ext cx="5111640" cy="5151600"/>
        </p:xfrm>
        <a:graphic>
          <a:graphicData uri="http://schemas.openxmlformats.org/drawingml/2006/table">
            <a:tbl>
              <a:tblPr/>
              <a:tblGrid>
                <a:gridCol w="5111640"/>
              </a:tblGrid>
              <a:tr h="2226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неприветливо, широкий дол, шумиш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можешь мне простить разлук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не хранят, чего не помнят люди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 , вечный, ты и помнишь, и храниш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навсегда в твоих лугах бескрайних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навсегда в твоих лугах густы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после всех  дорог судьбы 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чайных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вилистых, запутанных, крутых 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ледняя дорога м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ямая –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юда, чтобы спокойно умереть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                    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/А. Вампилов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2" descr="D:\документы\11класс\Вампилов\Вампилов фото\Vampilov.jpg"/>
          <p:cNvPicPr/>
          <p:nvPr/>
        </p:nvPicPr>
        <p:blipFill>
          <a:blip r:embed="rId1"/>
          <a:stretch/>
        </p:blipFill>
        <p:spPr>
          <a:xfrm>
            <a:off x="142920" y="285840"/>
            <a:ext cx="3351240" cy="529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Заголовок 1"/>
          <p:cNvGrpSpPr/>
          <p:nvPr/>
        </p:nvGrpSpPr>
        <p:grpSpPr>
          <a:xfrm>
            <a:off x="212760" y="0"/>
            <a:ext cx="8918640" cy="1616040"/>
            <a:chOff x="212760" y="0"/>
            <a:chExt cx="8918640" cy="1616040"/>
          </a:xfrm>
        </p:grpSpPr>
        <p:pic>
          <p:nvPicPr>
            <p:cNvPr id="15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2760" y="0"/>
              <a:ext cx="89186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277920"/>
              <a:ext cx="82296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200" spc="-1" strike="noStrike">
                  <a:solidFill>
                    <a:srgbClr val="ffc000"/>
                  </a:solidFill>
                  <a:latin typeface="Tahoma"/>
                </a:rPr>
                <a:t>Мемориальный камень на месте гибели А. Вампилова</a:t>
              </a:r>
              <a:endParaRPr b="0" lang="en-US" sz="4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1" name="Picture 2" descr="D:\документы\11класс\Вампилов\Вампилов фото\RVvvlQ.jpg"/>
          <p:cNvPicPr/>
          <p:nvPr/>
        </p:nvPicPr>
        <p:blipFill>
          <a:blip r:embed="rId2"/>
          <a:stretch/>
        </p:blipFill>
        <p:spPr>
          <a:xfrm>
            <a:off x="3000240" y="1500120"/>
            <a:ext cx="2643480" cy="52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D:\документы\11класс\Вампилов\обложки книг\3.jpg"/>
          <p:cNvPicPr/>
          <p:nvPr/>
        </p:nvPicPr>
        <p:blipFill>
          <a:blip r:embed="rId1"/>
          <a:stretch/>
        </p:blipFill>
        <p:spPr>
          <a:xfrm>
            <a:off x="3143160" y="0"/>
            <a:ext cx="2184480" cy="356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D:\документы\11класс\Вампилов\обложки книг\372181.jpg"/>
          <p:cNvPicPr/>
          <p:nvPr/>
        </p:nvPicPr>
        <p:blipFill>
          <a:blip r:embed="rId2"/>
          <a:stretch/>
        </p:blipFill>
        <p:spPr>
          <a:xfrm>
            <a:off x="6572160" y="3429000"/>
            <a:ext cx="2197080" cy="338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D:\документы\11класс\Вампилов\обложки книг\7.jpg"/>
          <p:cNvPicPr/>
          <p:nvPr/>
        </p:nvPicPr>
        <p:blipFill>
          <a:blip r:embed="rId3"/>
          <a:stretch/>
        </p:blipFill>
        <p:spPr>
          <a:xfrm>
            <a:off x="285840" y="3643200"/>
            <a:ext cx="2381040" cy="313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D:\документы\11класс\Вампилов\обложки книг\5.jpg"/>
          <p:cNvPicPr/>
          <p:nvPr/>
        </p:nvPicPr>
        <p:blipFill>
          <a:blip r:embed="rId4"/>
          <a:stretch/>
        </p:blipFill>
        <p:spPr>
          <a:xfrm>
            <a:off x="357120" y="0"/>
            <a:ext cx="212112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D:\документы\11класс\Вампилов\обложки книг\2.jpg"/>
          <p:cNvPicPr/>
          <p:nvPr/>
        </p:nvPicPr>
        <p:blipFill>
          <a:blip r:embed="rId5"/>
          <a:stretch/>
        </p:blipFill>
        <p:spPr>
          <a:xfrm>
            <a:off x="3143160" y="3643200"/>
            <a:ext cx="1984320" cy="313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D:\документы\11класс\Вампилов\обложки книг\8.jpg"/>
          <p:cNvPicPr/>
          <p:nvPr/>
        </p:nvPicPr>
        <p:blipFill>
          <a:blip r:embed="rId6"/>
          <a:stretch/>
        </p:blipFill>
        <p:spPr>
          <a:xfrm>
            <a:off x="6429240" y="0"/>
            <a:ext cx="2533680" cy="33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Важнейшие даты жизни и творчества А.В.Вампило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37год – поселок Кутулик. Иркутская область. Родился драматург, принесший на сцену « удивительное, всесильное чувство правд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0 год – закончил историко – филологический  факультет Иркутского университета. Работа в газете «Советская молодежь». Увлечение драматург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Важнейшие даты жизни и творчест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5 год – приезд в Москву в театр «Современни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6 год – « Прощание в июн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70 год -  « Старший сын» , « Утиная охо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72 год -  « Прошлым летом в Чулимск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густ 1972 года – трагическая гибель писател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5960" y="0"/>
            <a:ext cx="5492880" cy="56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«Старший сын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Picture 2" descr="D:\документы\11класс\Вампилов\кадры из фильма\Film_shot00005.jpg"/>
          <p:cNvPicPr/>
          <p:nvPr/>
        </p:nvPicPr>
        <p:blipFill>
          <a:blip r:embed="rId1"/>
          <a:srcRect l="0" t="107" r="0" b="107"/>
          <a:stretch/>
        </p:blipFill>
        <p:spPr>
          <a:xfrm>
            <a:off x="1214280" y="189072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8400" y="50004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А. Вампилов любил повторять: « Случай, пустяк, стечение обстоятельств  иногда становятся самыми драматичными в жизни челове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Андрей Григорьевич – глава семьи Сарафановых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Picture 2" descr="D:\документы\11класс\Вампилов\кадры из фильма\Starshiy-syn_16.jpg"/>
          <p:cNvPicPr/>
          <p:nvPr/>
        </p:nvPicPr>
        <p:blipFill>
          <a:blip r:embed="rId1"/>
          <a:stretch/>
        </p:blipFill>
        <p:spPr>
          <a:xfrm>
            <a:off x="1000080" y="1143000"/>
            <a:ext cx="6091200" cy="450072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857160" y="5786280"/>
            <a:ext cx="72151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Валентин Распутин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о творчестве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А. Вампилова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Кажется, главный вопрос, который постоянно задаёт Вампилов: останешься ли ты, человек, человеком? Сумеешь ли ты превозмочь всё то лживое и недоброе, что уготовано тебе во многих житейских испытаниях, где трудно стали различимы  и противоположности – любовь и измена, страсть и равнодушие, искренность и фальшь, благо и порабощени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2" descr="C:\Documents and Settings\Admin.MICROSOF-334942\Мои документы\Мои рисунки\e7a74838b41aac3ae48d49f80891724c.jpg"/>
          <p:cNvPicPr/>
          <p:nvPr/>
        </p:nvPicPr>
        <p:blipFill>
          <a:blip r:embed="rId1"/>
          <a:stretch/>
        </p:blipFill>
        <p:spPr>
          <a:xfrm>
            <a:off x="214200" y="1428840"/>
            <a:ext cx="3676680" cy="49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4f1100"/>
              </a:gs>
              <a:gs pos="100000">
                <a:srgbClr val="6e1900"/>
              </a:gs>
            </a:gsLst>
            <a:lin ang="16200000"/>
          </a:gradFill>
          <a:ln w="9360">
            <a:solidFill>
              <a:srgbClr val="601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Александр Валентинович Вампилов (1937 -1972)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2" descr="D:\документы\11класс\Вампилов\Марк Сергеев А Вампилов  в музее Иркутска обложки книг\4-2.jpg"/>
          <p:cNvPicPr/>
          <p:nvPr/>
        </p:nvPicPr>
        <p:blipFill>
          <a:blip r:embed="rId1"/>
          <a:stretch/>
        </p:blipFill>
        <p:spPr>
          <a:xfrm>
            <a:off x="2571840" y="1571760"/>
            <a:ext cx="3733560" cy="50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-360" y="49968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 Вампилов ни дня не мог прожить без музыки. В его доме хранилась гитара, старинная, оставшаяся ещё от деда, и потому особенно притягательная. В тесном дружеском кругу звучали под аккомпанемент гитары и щемяще трогали за сердце песни на стихи А. Пушкина, А. Дельвига, М. Лермонт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ivas.mp3" descr=""/>
          <p:cNvPicPr/>
          <p:nvPr/>
        </p:nvPicPr>
        <p:blipFill>
          <a:blip r:embed="rId1"/>
          <a:stretch/>
        </p:blipFill>
        <p:spPr>
          <a:xfrm>
            <a:off x="42861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документы\11класс\Вампилов\Вампилов фото\Вампилов\imgmat_350_teatr644320.jpg"/>
          <p:cNvPicPr/>
          <p:nvPr/>
        </p:nvPicPr>
        <p:blipFill>
          <a:blip r:embed="rId2"/>
          <a:stretch/>
        </p:blipFill>
        <p:spPr>
          <a:xfrm>
            <a:off x="5207040" y="357120"/>
            <a:ext cx="393696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Picture 3" descr="D:\документы\11класс\Вампилов\Вампилов фото\Вампилов\VAMP3P.jpg"/>
          <p:cNvPicPr/>
          <p:nvPr/>
        </p:nvPicPr>
        <p:blipFill>
          <a:blip r:embed="rId3"/>
          <a:stretch/>
        </p:blipFill>
        <p:spPr>
          <a:xfrm>
            <a:off x="5303880" y="3330720"/>
            <a:ext cx="3840120" cy="352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147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4f1100"/>
              </a:gs>
              <a:gs pos="100000">
                <a:srgbClr val="6e1900"/>
              </a:gs>
            </a:gsLst>
            <a:lin ang="16200000"/>
          </a:gradFill>
          <a:ln w="9360">
            <a:solidFill>
              <a:srgbClr val="601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Родители Валентин Никитич Вампилов и Анастасия Прокопьевна Копылова - Вампилов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2" descr="D:\документы\11класс\Вампилов\Вампилов фото\vamp2.jpg"/>
          <p:cNvPicPr/>
          <p:nvPr/>
        </p:nvPicPr>
        <p:blipFill>
          <a:blip r:embed="rId1"/>
          <a:stretch/>
        </p:blipFill>
        <p:spPr>
          <a:xfrm>
            <a:off x="642960" y="1571760"/>
            <a:ext cx="3852720" cy="45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36" name="Picture 2" descr="D:\документы\11класс\Вампилов\Вампилов фото\vamp3.jpg"/>
          <p:cNvPicPr/>
          <p:nvPr/>
        </p:nvPicPr>
        <p:blipFill>
          <a:blip r:embed="rId2"/>
          <a:stretch/>
        </p:blipFill>
        <p:spPr>
          <a:xfrm>
            <a:off x="4714920" y="1643040"/>
            <a:ext cx="3898800" cy="44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Театр юного зрителя 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имени А. В.Вампилова  в Иркутск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2" descr="D:\документы\11класс\Вампилов\Вампилов фото\26.jpg"/>
          <p:cNvPicPr/>
          <p:nvPr/>
        </p:nvPicPr>
        <p:blipFill>
          <a:blip r:embed="rId1"/>
          <a:stretch/>
        </p:blipFill>
        <p:spPr>
          <a:xfrm>
            <a:off x="928800" y="1457280"/>
            <a:ext cx="6821280" cy="5329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Tahoma"/>
              </a:rPr>
              <a:t>Памятник А. Вампилову в Иркутск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2" descr="D:\документы\11класс\Вампилов\Вампилов фото\Вампилов\quotauthor_120_2.jpg"/>
          <p:cNvPicPr/>
          <p:nvPr/>
        </p:nvPicPr>
        <p:blipFill>
          <a:blip r:embed="rId1"/>
          <a:stretch/>
        </p:blipFill>
        <p:spPr>
          <a:xfrm>
            <a:off x="1000080" y="145728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2" descr="D:\документы\11класс\Вампилов\Марк Сергеев А Вампилов  в музее Иркутска обложки книг\inside_03.jpg"/>
          <p:cNvPicPr/>
          <p:nvPr/>
        </p:nvPicPr>
        <p:blipFill>
          <a:blip r:embed="rId1"/>
          <a:stretch/>
        </p:blipFill>
        <p:spPr>
          <a:xfrm>
            <a:off x="2500200" y="142920"/>
            <a:ext cx="4210200" cy="178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D:\документы\11класс\Вампилов\Марк Сергеев А Вампилов  в музее Иркутска обложки книг\photo_vam1.jpg"/>
          <p:cNvPicPr/>
          <p:nvPr/>
        </p:nvPicPr>
        <p:blipFill>
          <a:blip r:embed="rId2"/>
          <a:stretch/>
        </p:blipFill>
        <p:spPr>
          <a:xfrm>
            <a:off x="1071720" y="2000160"/>
            <a:ext cx="695160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А. Вампилов на фоне афиш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« Прощание в июне» в клайпедском и вологодском театрах. 1966 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2" descr="D:\документы\11класс\Вампилов\Вампилов фото\vam-03.jpg"/>
          <p:cNvPicPr/>
          <p:nvPr/>
        </p:nvPicPr>
        <p:blipFill>
          <a:blip r:embed="rId1"/>
          <a:stretch/>
        </p:blipFill>
        <p:spPr>
          <a:xfrm>
            <a:off x="1785960" y="1746360"/>
            <a:ext cx="5072040" cy="511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Озеро  Байка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2" descr="D:\документы\11класс\Вампилов\Вампилов фото\baikal.jpg"/>
          <p:cNvPicPr/>
          <p:nvPr/>
        </p:nvPicPr>
        <p:blipFill>
          <a:blip r:embed="rId1"/>
          <a:stretch/>
        </p:blipFill>
        <p:spPr>
          <a:xfrm>
            <a:off x="3500280" y="1643040"/>
            <a:ext cx="5464440" cy="4068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мпилов утонул в Байкале  летом 1972 года. Жизнь оборвалась на самом её взлете, жизнь, которой он привык диктовать условия, ведь он даже не позволял себе утонуть.  В лодке, перевернувшейся от удара о топляк , их было двое. Один уцепился  за днище, надеясь, что лодку заметят скорее, чем его самого. А Саня поплыл к берегу. И он доплыл , и уже чувствовал дно под ногами, но сердце не выдержал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8:57:34Z</dcterms:created>
  <dc:creator>Admin</dc:creator>
  <dc:description/>
  <dc:language>en-US</dc:language>
  <cp:lastModifiedBy>Администратор</cp:lastModifiedBy>
  <dcterms:modified xsi:type="dcterms:W3CDTF">2013-02-24T21:30:06Z</dcterms:modified>
  <cp:revision>109</cp:revision>
  <dc:subject/>
  <dc:title>Александр Вампилов</dc:title>
</cp:coreProperties>
</file>